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21.gif" ContentType="image/gif"/>
  <Override PartName="/ppt/media/image19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8.png" ContentType="image/png"/>
  <Override PartName="/ppt/media/image20.png" ContentType="image/png"/>
  <Override PartName="/ppt/media/image7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420AD-2309-4403-86B3-E18BD62D8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52CD3-9A8A-438E-93F4-FEBF6754B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C80BB5-3D9B-4EDB-B56A-91B6E9BE2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475411-62BE-4686-9C45-6CCC5DC7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18A8B-9DF7-493C-ADF4-624E798E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934857-65C3-45C7-92BB-6113DD02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B62C3-890C-42B5-B3CC-AF9E1C816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2E1C6-DEB2-4076-9215-7C81F9479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117908-6788-44D6-B3B5-343A0ABD0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19A58D-8C6C-4047-A0E2-9AC63A7F6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A930C5-EF7B-49D0-BD86-1BD2DD513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B9C416-82C0-4621-9356-7F9E33F06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025CF9-0E85-488C-801B-6CBFF77E0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26A917-5437-4EEE-A044-3300BEA82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93918B-5236-4928-8F57-21048039A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FCFBD6-E8FA-4138-91F0-ECE7288E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76380-1330-401A-8562-6C720610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2290CF-299F-48FE-ABB2-AF0B82FA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5CCCB5-0512-4FEC-BBCF-88EB79B8D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AFB74E-FDE7-40D0-B3C0-BEEE6FC06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00BB71-8667-4DA4-8A4C-4E4B6B755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6A2C2A-45B6-4AEA-8AE7-AC9AE6C98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6E7A48-0CFD-4920-8216-BFABFA4B3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99EEA4-A7F8-4871-8811-05A61C5A7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C34891-CAFC-4CA7-BA7A-76ADD2915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355AE1-C2AC-4AF4-AB53-E31FA7849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625066-8194-4885-9B5D-2CFA46D5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BC3845-D958-4361-A533-2D8E167A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B3674A-D9DD-4F03-BC63-3F0ABC2F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BC37C3-6E64-4231-9637-1C6A11CB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7701-D21C-440F-9253-3D3FAE521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D26767-AD71-4938-8767-D9A8F4997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B62552-D74B-4D45-B3B9-04B7B0C9E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9CD498-BDA7-407F-8409-7949341D5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693B67-D11C-491B-8EA5-3301122FB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0E69F4-D03B-4C20-AAE8-18988DF43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B2FA1D-5A69-47E8-BBFB-C323B6F46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F8AE7A-F252-4735-9A21-47F266F62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4DDC46-A29C-40BF-93F7-4D51C1E18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25A709-309F-43D9-AAF2-00C86DAB8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6E7E74-90C6-4B8E-9731-CA4DF1CA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053A-A8C7-40C7-8D30-0FC2BE368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F14949-1CEA-4811-9636-582F8D9C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F95A81-4949-4AD0-AB04-ABB17614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6F7E20-D406-4565-8161-8E3F3DB49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1AF333-A1D5-428B-819D-F85C7F844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736801-6A08-4DC4-8FA1-8B30A874F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E89D26-D2BA-4652-957B-D94DC38F9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8ADE18-33B3-4717-AC7D-ACB740A73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ECBC34-7DFD-4C07-8D0B-F1673A698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6A63AE-8A1A-4250-9E82-A15F05E31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6C46F5-08E6-4708-A67B-B76C6ACA2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FB2A-FE55-4210-81CC-D8174BEAC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B54AA8-243B-4371-A7E6-5701D455F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AEA0D3-0D14-4A37-98E6-EC23ADC0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027AF4-303C-4A80-B9AB-EBDB25FF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2F33DB-7B05-4973-8D10-E05936C6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1968D9-9A71-4D19-BCDA-8165577EE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2D5EC9-07A6-42FF-B9CF-0D35B68FF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1BB264-A969-4F4D-8564-C4D0A993E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EE8EA5-1CB5-47B8-841B-87ECD81AE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2CF2DA-54BF-43E3-AE24-52FA026C7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F657F2-2BE8-478E-9423-2A269F3D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9761-7EC6-45A3-B280-ACF576477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70DAA2-F48E-4B6F-B287-0EB231ED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03C447-78E4-4C43-B912-7BF0406D8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B0E7C5-DEA6-4327-88EF-EF5040BF0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476DFA-AE3E-42F6-B9BC-36F74AB2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5B570E-66D1-42F3-82EF-33FB71AE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097A63-C3FA-4E1D-B244-52CCEE7F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F53A37-A2B7-437C-A3AF-318CA1952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CE92C9-39F1-43D6-B409-3E0CB6EA5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F89713-BF5C-4452-BD55-9555DFDF3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B320-0A39-4DB1-A8B1-6295D79FF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DDB3-FEDD-44AA-8318-533D3F03C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5C36-D894-48F9-8E50-6F087DEC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DC90-FCDD-403A-80FD-B18EAEE2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8831-420D-491E-898F-49A768F7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AAE5-52D3-47C6-9387-4D29107AA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2AEB-4242-493B-AFB3-CAE4CE25A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44D2-7CFF-4BD4-B686-28F6B6283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185DF-BE07-44DA-AC6C-859D7134F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7ADFE-C6DD-4687-A01B-3D52102A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5C595-4EA2-448B-A368-284F6651D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EADBC-B494-42F3-88E8-5C163DA13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EFCB2-0BE6-4E28-814D-09E7E79EE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39394-3CC6-48C2-81E3-30DD0BE2B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381DC-2B40-46E9-AC2A-49EA92F2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D5FAF-3F47-45A1-A7AF-680537F2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C9CCC-86E6-4D24-BEBE-C1F091BA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1C6E1-9DF1-46AB-94DF-6FAEC01A7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7318B-669C-47CE-B1E6-3E9708344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1F621-37AD-4820-807A-6F4EC98CA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48275-046A-47A3-B305-2CB716EE7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DE40C-F8FF-4F26-9F71-3464F095A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4ED07-10EB-4ADD-A656-33C82657A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41F7A-1BAF-4F57-9D08-54C429548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0A5E4-6ADB-4D07-A525-DD773EBDA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30D0A-FBA9-4BE3-BF6A-0D9DEF2E6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2D8AF-67AA-40A3-A161-A2D8798C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8D877-5D3B-4227-8FFD-EBEB75FA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92EF6-EDA6-415C-8223-AEE7FE4B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E21B5-76D6-487A-931E-4FC8164C4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30871-8142-4279-8FA6-ED0D67384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9BEEA-F7AF-4664-BDF6-5A0EE3AD7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767A4-18A4-4688-86CE-AC606F89C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523CF-BB02-44A6-AFFD-7BE640899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9A2B5-45A5-459A-A5CD-11F99D945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382BB-ED26-4F38-8BE7-D66D54B7C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C7BDF-32A9-4067-ADDB-C925E2D3D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D3240-6DBE-44E8-BA44-6E6B921B2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464C4-7CDC-461C-98FE-2C965789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5300D-F0F1-4B55-BD12-62DFA7AC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ED47A-15E4-4C12-95D6-EA4983CB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E785A-5E92-4E24-A550-4417DA67B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575EB-DDA4-46CF-BA85-5F23922F2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99C5B-BD1F-49D9-AFC5-9F06CF8F2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0893C-168A-4B65-AA42-8621B2B5B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A7F5E-62AB-4533-84CB-23453EC23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2AA53-E44C-42AA-9F83-F6E87533F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68C5F-BB12-4A07-949F-C81913D2F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0C6A1-0EA4-4095-B845-0F1EE0E02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2A0B8-12C5-4BF9-925A-BAD53057C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B4ACE-8DF5-49DC-AE9A-E84F910A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4CAF9-2063-46F7-BC6A-B64BF9EE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0DD3E-1F87-4083-9041-61DABDD2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1902E-FB08-4DF6-8D9E-3FCADDDB3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B60BF-88F9-4BCB-B589-0E5510C07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8C908-3A3E-41FD-82F7-D09050C79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A2063-B908-4CE7-970D-7D445B046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CBF60-01E2-4BDD-91FC-AD29690CC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AEA18-A975-4C25-94D2-F0578093E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44742-DE94-4683-ADD3-7D8254AD2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D023E-ED81-42CC-B91A-7D4857C66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C91C9-4A1D-42C9-8376-41A8BA16C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F428F-C01D-4889-B471-89C64CB0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F1AE36-EF1C-4E2D-ACD2-E56ECC25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124D3-5509-47C2-B50E-B1CB09D5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4E6A9-FF24-47BB-BFE5-D342DFD07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ECC00-5467-4400-9ADC-695F11C17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3A0A1-1FA3-4192-9BE3-FE67DF7B0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84A18C-039F-44C6-BD0E-044B1822B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2C4594-00EB-481D-A808-A6FA47481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D79A4-5ED1-445C-9764-504300F04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2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3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4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0A6DD-AF52-4076-92FB-5FAC23DEA889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5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6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27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319D1-CAAF-4E38-BF4F-A399E5D38685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8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29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0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430B6-DB07-4FAA-B852-714B8BC03AC5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1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2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3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6FD90-043A-43B6-9AE1-70A09C4EBDE1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34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35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36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18DF1-30D7-479C-A34E-6B41B0BB663D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图片 29697" descr=""/>
          <p:cNvPicPr/>
          <p:nvPr/>
        </p:nvPicPr>
        <p:blipFill>
          <a:blip r:embed="rId3"/>
          <a:stretch/>
        </p:blipFill>
        <p:spPr>
          <a:xfrm>
            <a:off x="0" y="0"/>
            <a:ext cx="2162160" cy="728640"/>
          </a:xfrm>
          <a:prstGeom prst="rect">
            <a:avLst/>
          </a:prstGeom>
          <a:ln w="0">
            <a:noFill/>
          </a:ln>
        </p:spPr>
      </p:pic>
      <p:grpSp>
        <p:nvGrpSpPr>
          <p:cNvPr id="37" name="组合 29698"/>
          <p:cNvGrpSpPr/>
          <p:nvPr/>
        </p:nvGrpSpPr>
        <p:grpSpPr>
          <a:xfrm>
            <a:off x="610920" y="3975120"/>
            <a:ext cx="7615440" cy="830160"/>
            <a:chOff x="610920" y="3975120"/>
            <a:chExt cx="7615440" cy="830160"/>
          </a:xfrm>
        </p:grpSpPr>
        <p:sp>
          <p:nvSpPr>
            <p:cNvPr id="38" name="椭圆 29699"/>
            <p:cNvSpPr/>
            <p:nvPr/>
          </p:nvSpPr>
          <p:spPr>
            <a:xfrm flipH="1">
              <a:off x="4407840" y="3975120"/>
              <a:ext cx="1104840" cy="82872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椭圆 29700"/>
            <p:cNvSpPr/>
            <p:nvPr/>
          </p:nvSpPr>
          <p:spPr>
            <a:xfrm flipH="1">
              <a:off x="7123320" y="3975120"/>
              <a:ext cx="1103040" cy="82872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椭圆 29701"/>
            <p:cNvSpPr/>
            <p:nvPr/>
          </p:nvSpPr>
          <p:spPr>
            <a:xfrm flipH="1">
              <a:off x="610560" y="3976200"/>
              <a:ext cx="1103400" cy="8290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椭圆 29702"/>
            <p:cNvSpPr/>
            <p:nvPr/>
          </p:nvSpPr>
          <p:spPr>
            <a:xfrm flipH="1">
              <a:off x="5863680" y="3975120"/>
              <a:ext cx="1103400" cy="82872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椭圆 29703"/>
            <p:cNvSpPr/>
            <p:nvPr/>
          </p:nvSpPr>
          <p:spPr>
            <a:xfrm flipH="1">
              <a:off x="1897920" y="3975120"/>
              <a:ext cx="1103400" cy="82872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BD515-D098-477A-82A7-3A96D1D6FE02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组合 30721"/>
          <p:cNvGrpSpPr/>
          <p:nvPr/>
        </p:nvGrpSpPr>
        <p:grpSpPr>
          <a:xfrm>
            <a:off x="1658520" y="1200240"/>
            <a:ext cx="6837840" cy="2399760"/>
            <a:chOff x="1658520" y="1200240"/>
            <a:chExt cx="6837840" cy="2399760"/>
          </a:xfrm>
        </p:grpSpPr>
        <p:sp>
          <p:nvSpPr>
            <p:cNvPr id="121" name="椭圆 30722"/>
            <p:cNvSpPr/>
            <p:nvPr/>
          </p:nvSpPr>
          <p:spPr>
            <a:xfrm flipH="1">
              <a:off x="6972120" y="1200240"/>
              <a:ext cx="1524240" cy="11426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椭圆 30723"/>
            <p:cNvSpPr/>
            <p:nvPr/>
          </p:nvSpPr>
          <p:spPr>
            <a:xfrm flipH="1">
              <a:off x="5181480" y="1200240"/>
              <a:ext cx="1524240" cy="11426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椭圆 30724"/>
            <p:cNvSpPr/>
            <p:nvPr/>
          </p:nvSpPr>
          <p:spPr>
            <a:xfrm flipH="1">
              <a:off x="3390120" y="1200240"/>
              <a:ext cx="1523880" cy="11426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椭圆 30725"/>
            <p:cNvSpPr/>
            <p:nvPr/>
          </p:nvSpPr>
          <p:spPr>
            <a:xfrm flipH="1">
              <a:off x="3390120" y="2457360"/>
              <a:ext cx="1523880" cy="11426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椭圆 30726"/>
            <p:cNvSpPr/>
            <p:nvPr/>
          </p:nvSpPr>
          <p:spPr>
            <a:xfrm flipH="1">
              <a:off x="1658160" y="2457360"/>
              <a:ext cx="1523880" cy="11426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椭圆 30727"/>
            <p:cNvSpPr/>
            <p:nvPr/>
          </p:nvSpPr>
          <p:spPr>
            <a:xfrm flipH="1">
              <a:off x="6972120" y="2457360"/>
              <a:ext cx="1524240" cy="11426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4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5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6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2A669-6C08-4F75-B29D-11FFC9D153CF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7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8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9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7B588-55A9-4685-B961-2E7899C60682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0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1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2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075AF-58FE-4599-9E6A-530EA9859A0D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3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4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5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1D8A3-0D2A-4765-93B8-486DC97B4E96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6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7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8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8EE2C-ED25-4E1A-8081-4AA18362452D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19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0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1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9AA8E-C374-4E85-8B6B-C72D4928869F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0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0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标题 1"/>
          <p:cNvSpPr/>
          <p:nvPr/>
        </p:nvSpPr>
        <p:spPr>
          <a:xfrm>
            <a:off x="2503440" y="1654200"/>
            <a:ext cx="53816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语文园地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圆角矩形 1"/>
          <p:cNvSpPr/>
          <p:nvPr/>
        </p:nvSpPr>
        <p:spPr>
          <a:xfrm>
            <a:off x="812880" y="831960"/>
            <a:ext cx="7753320" cy="3249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不言不语：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什么也不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只言片语：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个别的词句；片段的话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三言两语：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说话简明扼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千言万语：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形容有很多的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2" dur="5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7" dur="500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2" dur="500"/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7" dur="400"/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圆角矩形 1"/>
          <p:cNvSpPr/>
          <p:nvPr/>
        </p:nvSpPr>
        <p:spPr>
          <a:xfrm>
            <a:off x="819000" y="563400"/>
            <a:ext cx="7486920" cy="3575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默默无语：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沉默着不说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少言寡语：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形容很少说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自言自语：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自己跟自己说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甜言蜜语：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为了讨好或哄骗人而说的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"/>
                <a:ea typeface="楷体"/>
              </a:rPr>
              <a:t>          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妙动听的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4" dur="500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9" dur="500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4" dur="500"/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9" dur="500"/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2" dur="500"/>
                                        <p:tgtEl>
                                          <p:spTgt spid="6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矩形 1"/>
          <p:cNvSpPr/>
          <p:nvPr/>
        </p:nvSpPr>
        <p:spPr>
          <a:xfrm>
            <a:off x="103320" y="244440"/>
            <a:ext cx="8210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注意下面句子中加点的词语，仿照例子在括号中加上合适的词语，再读一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5" name="组合 4"/>
          <p:cNvGrpSpPr/>
          <p:nvPr/>
        </p:nvGrpSpPr>
        <p:grpSpPr>
          <a:xfrm>
            <a:off x="523800" y="1633680"/>
            <a:ext cx="8128080" cy="1415160"/>
            <a:chOff x="523800" y="1633680"/>
            <a:chExt cx="8128080" cy="1415160"/>
          </a:xfrm>
        </p:grpSpPr>
        <p:sp>
          <p:nvSpPr>
            <p:cNvPr id="646" name="矩形 1"/>
            <p:cNvSpPr/>
            <p:nvPr/>
          </p:nvSpPr>
          <p:spPr>
            <a:xfrm>
              <a:off x="523800" y="1633680"/>
              <a:ext cx="8128080" cy="7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30000"/>
                </a:lnSpc>
                <a:buClr>
                  <a:srgbClr val="000000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细长的葫芦藤上长满了绿叶，开出了几朵雪白的小花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7" name="组合 2"/>
            <p:cNvGrpSpPr/>
            <p:nvPr/>
          </p:nvGrpSpPr>
          <p:grpSpPr>
            <a:xfrm>
              <a:off x="1119600" y="2016000"/>
              <a:ext cx="1177560" cy="398880"/>
              <a:chOff x="1119600" y="2016000"/>
              <a:chExt cx="1177560" cy="398880"/>
            </a:xfrm>
          </p:grpSpPr>
          <p:sp>
            <p:nvSpPr>
              <p:cNvPr id="648" name="矩形 19"/>
              <p:cNvSpPr/>
              <p:nvPr/>
            </p:nvSpPr>
            <p:spPr>
              <a:xfrm>
                <a:off x="1119600" y="20160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楷体"/>
                    <a:ea typeface="楷体"/>
                  </a:rPr>
                  <a:t>·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矩形 20"/>
              <p:cNvSpPr/>
              <p:nvPr/>
            </p:nvSpPr>
            <p:spPr>
              <a:xfrm>
                <a:off x="1521000" y="20160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楷体"/>
                    <a:ea typeface="楷体"/>
                  </a:rPr>
                  <a:t>·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矩形 23"/>
              <p:cNvSpPr/>
              <p:nvPr/>
            </p:nvSpPr>
            <p:spPr>
              <a:xfrm>
                <a:off x="1964160" y="20160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楷体"/>
                    <a:ea typeface="楷体"/>
                  </a:rPr>
                  <a:t>·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1" name="组合 29"/>
            <p:cNvGrpSpPr/>
            <p:nvPr/>
          </p:nvGrpSpPr>
          <p:grpSpPr>
            <a:xfrm>
              <a:off x="1119600" y="2649960"/>
              <a:ext cx="734760" cy="398880"/>
              <a:chOff x="1119600" y="2649960"/>
              <a:chExt cx="734760" cy="398880"/>
            </a:xfrm>
          </p:grpSpPr>
          <p:sp>
            <p:nvSpPr>
              <p:cNvPr id="652" name="矩形 30"/>
              <p:cNvSpPr/>
              <p:nvPr/>
            </p:nvSpPr>
            <p:spPr>
              <a:xfrm>
                <a:off x="1119600" y="264996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楷体"/>
                    <a:ea typeface="楷体"/>
                  </a:rPr>
                  <a:t>·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矩形 31"/>
              <p:cNvSpPr/>
              <p:nvPr/>
            </p:nvSpPr>
            <p:spPr>
              <a:xfrm>
                <a:off x="1521360" y="264996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楷体"/>
                    <a:ea typeface="楷体"/>
                  </a:rPr>
                  <a:t>·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4" name="矩形 33"/>
            <p:cNvSpPr/>
            <p:nvPr/>
          </p:nvSpPr>
          <p:spPr>
            <a:xfrm>
              <a:off x="1964160" y="26499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5" name="组合 1"/>
          <p:cNvGrpSpPr/>
          <p:nvPr/>
        </p:nvGrpSpPr>
        <p:grpSpPr>
          <a:xfrm>
            <a:off x="558720" y="3290760"/>
            <a:ext cx="8128080" cy="1436040"/>
            <a:chOff x="558720" y="3290760"/>
            <a:chExt cx="8128080" cy="1436040"/>
          </a:xfrm>
        </p:grpSpPr>
        <p:sp>
          <p:nvSpPr>
            <p:cNvPr id="656" name="矩形 1"/>
            <p:cNvSpPr/>
            <p:nvPr/>
          </p:nvSpPr>
          <p:spPr>
            <a:xfrm>
              <a:off x="558720" y="3290760"/>
              <a:ext cx="8128080" cy="7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30000"/>
                </a:lnSpc>
                <a:buClr>
                  <a:srgbClr val="000000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茂密的枝叶向四面展开，就像搭起了一个个绿色的凉棚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矩形 21"/>
            <p:cNvSpPr/>
            <p:nvPr/>
          </p:nvSpPr>
          <p:spPr>
            <a:xfrm>
              <a:off x="1119600" y="36824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矩形 22"/>
            <p:cNvSpPr/>
            <p:nvPr/>
          </p:nvSpPr>
          <p:spPr>
            <a:xfrm>
              <a:off x="1521360" y="36824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矩形 24"/>
            <p:cNvSpPr/>
            <p:nvPr/>
          </p:nvSpPr>
          <p:spPr>
            <a:xfrm>
              <a:off x="1964160" y="36824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矩形 25"/>
            <p:cNvSpPr/>
            <p:nvPr/>
          </p:nvSpPr>
          <p:spPr>
            <a:xfrm>
              <a:off x="1562760" y="43279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矩形 26"/>
            <p:cNvSpPr/>
            <p:nvPr/>
          </p:nvSpPr>
          <p:spPr>
            <a:xfrm>
              <a:off x="1964160" y="43279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矩形 27"/>
            <p:cNvSpPr/>
            <p:nvPr/>
          </p:nvSpPr>
          <p:spPr>
            <a:xfrm>
              <a:off x="2407320" y="43279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矩形 20"/>
          <p:cNvSpPr/>
          <p:nvPr/>
        </p:nvSpPr>
        <p:spPr>
          <a:xfrm>
            <a:off x="2870640" y="362124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én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矩形 21"/>
          <p:cNvSpPr/>
          <p:nvPr/>
        </p:nvSpPr>
        <p:spPr>
          <a:xfrm>
            <a:off x="1421280" y="2949480"/>
            <a:ext cx="63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m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矩形 1"/>
          <p:cNvSpPr/>
          <p:nvPr/>
        </p:nvSpPr>
        <p:spPr>
          <a:xfrm>
            <a:off x="1380960" y="1093680"/>
            <a:ext cx="7220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ff"/>
                </a:solidFill>
                <a:uFillTx/>
                <a:latin typeface="楷体"/>
                <a:ea typeface="楷体"/>
              </a:rPr>
              <a:t>      </a:t>
            </a:r>
            <a:r>
              <a:rPr b="1" lang="zh-CN" sz="4000" spc="-1" strike="noStrike">
                <a:solidFill>
                  <a:srgbClr val="0000ff"/>
                </a:solidFill>
                <a:latin typeface="楷体"/>
                <a:ea typeface="楷体"/>
              </a:rPr>
              <a:t>天空飘着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楷体"/>
                <a:ea typeface="楷体"/>
              </a:rPr>
              <a:t>      </a:t>
            </a:r>
            <a:r>
              <a:rPr b="1" lang="zh-CN" sz="4000" spc="-1" strike="noStrike">
                <a:solidFill>
                  <a:srgbClr val="0000ff"/>
                </a:solidFill>
                <a:latin typeface="楷体"/>
                <a:ea typeface="楷体"/>
              </a:rPr>
              <a:t>气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ff"/>
                </a:solidFill>
                <a:uFillTx/>
                <a:latin typeface="楷体"/>
                <a:ea typeface="楷体"/>
              </a:rPr>
              <a:t>      </a:t>
            </a:r>
            <a:r>
              <a:rPr b="1" lang="zh-CN" sz="4000" spc="-1" strike="noStrike">
                <a:solidFill>
                  <a:srgbClr val="0000ff"/>
                </a:solidFill>
                <a:latin typeface="楷体"/>
                <a:ea typeface="楷体"/>
              </a:rPr>
              <a:t>池塘开满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楷体"/>
                <a:ea typeface="楷体"/>
              </a:rPr>
              <a:t>      </a:t>
            </a:r>
            <a:r>
              <a:rPr b="1" lang="zh-CN" sz="4000" spc="-1" strike="noStrike">
                <a:solidFill>
                  <a:srgbClr val="0000ff"/>
                </a:solidFill>
                <a:latin typeface="楷体"/>
                <a:ea typeface="楷体"/>
              </a:rPr>
              <a:t>荷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矩形 2"/>
          <p:cNvSpPr/>
          <p:nvPr/>
        </p:nvSpPr>
        <p:spPr>
          <a:xfrm>
            <a:off x="1682640" y="14270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蓝蓝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矩形 3"/>
          <p:cNvSpPr/>
          <p:nvPr/>
        </p:nvSpPr>
        <p:spPr>
          <a:xfrm>
            <a:off x="5322600" y="14479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彩色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矩形 4"/>
          <p:cNvSpPr/>
          <p:nvPr/>
        </p:nvSpPr>
        <p:spPr>
          <a:xfrm>
            <a:off x="1714320" y="27003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碧绿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矩形 5"/>
          <p:cNvSpPr/>
          <p:nvPr/>
        </p:nvSpPr>
        <p:spPr>
          <a:xfrm>
            <a:off x="5276520" y="27003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洁白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9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4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9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4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Picture 2" descr="C:\Documents and Settings\Administrator\桌面\书写提示新.jpg"/>
          <p:cNvPicPr/>
          <p:nvPr/>
        </p:nvPicPr>
        <p:blipFill>
          <a:blip r:embed="rId1"/>
          <a:stretch/>
        </p:blipFill>
        <p:spPr>
          <a:xfrm>
            <a:off x="291960" y="355680"/>
            <a:ext cx="1987560" cy="457200"/>
          </a:xfrm>
          <a:prstGeom prst="rect">
            <a:avLst/>
          </a:prstGeom>
          <a:ln w="0">
            <a:noFill/>
          </a:ln>
        </p:spPr>
      </p:pic>
      <p:sp>
        <p:nvSpPr>
          <p:cNvPr id="671" name="矩形 7"/>
          <p:cNvSpPr/>
          <p:nvPr/>
        </p:nvSpPr>
        <p:spPr>
          <a:xfrm>
            <a:off x="1201680" y="3705120"/>
            <a:ext cx="7155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写字时要保持正确的坐姿和执笔姿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组合 46"/>
          <p:cNvGrpSpPr/>
          <p:nvPr/>
        </p:nvGrpSpPr>
        <p:grpSpPr>
          <a:xfrm>
            <a:off x="890640" y="1139760"/>
            <a:ext cx="3201840" cy="820800"/>
            <a:chOff x="890640" y="1139760"/>
            <a:chExt cx="3201840" cy="820800"/>
          </a:xfrm>
        </p:grpSpPr>
        <p:grpSp>
          <p:nvGrpSpPr>
            <p:cNvPr id="673" name="组合 45"/>
            <p:cNvGrpSpPr/>
            <p:nvPr/>
          </p:nvGrpSpPr>
          <p:grpSpPr>
            <a:xfrm>
              <a:off x="890640" y="1139760"/>
              <a:ext cx="819720" cy="820800"/>
              <a:chOff x="890640" y="1139760"/>
              <a:chExt cx="819720" cy="820800"/>
            </a:xfrm>
          </p:grpSpPr>
          <p:sp>
            <p:nvSpPr>
              <p:cNvPr id="674" name="矩形 18"/>
              <p:cNvSpPr/>
              <p:nvPr/>
            </p:nvSpPr>
            <p:spPr>
              <a:xfrm>
                <a:off x="890640" y="1139760"/>
                <a:ext cx="791280" cy="7923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直接连接符 22"/>
              <p:cNvSpPr/>
              <p:nvPr/>
            </p:nvSpPr>
            <p:spPr>
              <a:xfrm>
                <a:off x="919080" y="1536480"/>
                <a:ext cx="79128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直接连接符 27"/>
              <p:cNvSpPr/>
              <p:nvPr/>
            </p:nvSpPr>
            <p:spPr>
              <a:xfrm>
                <a:off x="1287000" y="1168200"/>
                <a:ext cx="0" cy="792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7" name="组合 50"/>
            <p:cNvGrpSpPr/>
            <p:nvPr/>
          </p:nvGrpSpPr>
          <p:grpSpPr>
            <a:xfrm>
              <a:off x="1682280" y="1139760"/>
              <a:ext cx="819720" cy="820800"/>
              <a:chOff x="1682280" y="1139760"/>
              <a:chExt cx="819720" cy="820800"/>
            </a:xfrm>
          </p:grpSpPr>
          <p:sp>
            <p:nvSpPr>
              <p:cNvPr id="678" name="矩形 51"/>
              <p:cNvSpPr/>
              <p:nvPr/>
            </p:nvSpPr>
            <p:spPr>
              <a:xfrm>
                <a:off x="1682280" y="1139760"/>
                <a:ext cx="791280" cy="7923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直接连接符 52"/>
              <p:cNvSpPr/>
              <p:nvPr/>
            </p:nvSpPr>
            <p:spPr>
              <a:xfrm>
                <a:off x="1710720" y="1536480"/>
                <a:ext cx="79128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直接连接符 53"/>
              <p:cNvSpPr/>
              <p:nvPr/>
            </p:nvSpPr>
            <p:spPr>
              <a:xfrm>
                <a:off x="2077920" y="1168200"/>
                <a:ext cx="0" cy="792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1" name="组合 54"/>
            <p:cNvGrpSpPr/>
            <p:nvPr/>
          </p:nvGrpSpPr>
          <p:grpSpPr>
            <a:xfrm>
              <a:off x="2476080" y="1139760"/>
              <a:ext cx="819720" cy="820800"/>
              <a:chOff x="2476080" y="1139760"/>
              <a:chExt cx="819720" cy="820800"/>
            </a:xfrm>
          </p:grpSpPr>
          <p:sp>
            <p:nvSpPr>
              <p:cNvPr id="682" name="矩形 55"/>
              <p:cNvSpPr/>
              <p:nvPr/>
            </p:nvSpPr>
            <p:spPr>
              <a:xfrm>
                <a:off x="2476080" y="1139760"/>
                <a:ext cx="791280" cy="7923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直接连接符 56"/>
              <p:cNvSpPr/>
              <p:nvPr/>
            </p:nvSpPr>
            <p:spPr>
              <a:xfrm>
                <a:off x="2504520" y="1536480"/>
                <a:ext cx="79128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直接连接符 57"/>
              <p:cNvSpPr/>
              <p:nvPr/>
            </p:nvSpPr>
            <p:spPr>
              <a:xfrm>
                <a:off x="2871720" y="1168200"/>
                <a:ext cx="0" cy="792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5" name="组合 58"/>
            <p:cNvGrpSpPr/>
            <p:nvPr/>
          </p:nvGrpSpPr>
          <p:grpSpPr>
            <a:xfrm>
              <a:off x="3272760" y="1139760"/>
              <a:ext cx="819720" cy="820800"/>
              <a:chOff x="3272760" y="1139760"/>
              <a:chExt cx="819720" cy="820800"/>
            </a:xfrm>
          </p:grpSpPr>
          <p:sp>
            <p:nvSpPr>
              <p:cNvPr id="686" name="矩形 59"/>
              <p:cNvSpPr/>
              <p:nvPr/>
            </p:nvSpPr>
            <p:spPr>
              <a:xfrm>
                <a:off x="3272760" y="1139760"/>
                <a:ext cx="791280" cy="7923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直接连接符 60"/>
              <p:cNvSpPr/>
              <p:nvPr/>
            </p:nvSpPr>
            <p:spPr>
              <a:xfrm>
                <a:off x="3301200" y="1536480"/>
                <a:ext cx="79128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直接连接符 61"/>
              <p:cNvSpPr/>
              <p:nvPr/>
            </p:nvSpPr>
            <p:spPr>
              <a:xfrm>
                <a:off x="3669120" y="1168200"/>
                <a:ext cx="0" cy="792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9" name="矩形 48"/>
          <p:cNvSpPr/>
          <p:nvPr/>
        </p:nvSpPr>
        <p:spPr>
          <a:xfrm>
            <a:off x="1041480" y="11620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65"/>
          <p:cNvSpPr/>
          <p:nvPr/>
        </p:nvSpPr>
        <p:spPr>
          <a:xfrm>
            <a:off x="1830240" y="11620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楷体"/>
                <a:ea typeface="楷体"/>
              </a:rPr>
              <a:t>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1" name="组合 66"/>
          <p:cNvGrpSpPr/>
          <p:nvPr/>
        </p:nvGrpSpPr>
        <p:grpSpPr>
          <a:xfrm>
            <a:off x="4862520" y="1125360"/>
            <a:ext cx="3201840" cy="820800"/>
            <a:chOff x="4862520" y="1125360"/>
            <a:chExt cx="3201840" cy="820800"/>
          </a:xfrm>
        </p:grpSpPr>
        <p:grpSp>
          <p:nvGrpSpPr>
            <p:cNvPr id="692" name="组合 67"/>
            <p:cNvGrpSpPr/>
            <p:nvPr/>
          </p:nvGrpSpPr>
          <p:grpSpPr>
            <a:xfrm>
              <a:off x="4862520" y="1125360"/>
              <a:ext cx="819720" cy="820800"/>
              <a:chOff x="4862520" y="1125360"/>
              <a:chExt cx="819720" cy="820800"/>
            </a:xfrm>
          </p:grpSpPr>
          <p:sp>
            <p:nvSpPr>
              <p:cNvPr id="693" name="矩形 80"/>
              <p:cNvSpPr/>
              <p:nvPr/>
            </p:nvSpPr>
            <p:spPr>
              <a:xfrm>
                <a:off x="4862520" y="1125360"/>
                <a:ext cx="791280" cy="7923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直接连接符 81"/>
              <p:cNvSpPr/>
              <p:nvPr/>
            </p:nvSpPr>
            <p:spPr>
              <a:xfrm>
                <a:off x="4890960" y="1522080"/>
                <a:ext cx="79128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直接连接符 82"/>
              <p:cNvSpPr/>
              <p:nvPr/>
            </p:nvSpPr>
            <p:spPr>
              <a:xfrm>
                <a:off x="5258880" y="1153800"/>
                <a:ext cx="0" cy="792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6" name="组合 68"/>
            <p:cNvGrpSpPr/>
            <p:nvPr/>
          </p:nvGrpSpPr>
          <p:grpSpPr>
            <a:xfrm>
              <a:off x="5654160" y="1125360"/>
              <a:ext cx="819720" cy="820800"/>
              <a:chOff x="5654160" y="1125360"/>
              <a:chExt cx="819720" cy="820800"/>
            </a:xfrm>
          </p:grpSpPr>
          <p:sp>
            <p:nvSpPr>
              <p:cNvPr id="697" name="矩形 77"/>
              <p:cNvSpPr/>
              <p:nvPr/>
            </p:nvSpPr>
            <p:spPr>
              <a:xfrm>
                <a:off x="5654160" y="1125360"/>
                <a:ext cx="791280" cy="7923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直接连接符 78"/>
              <p:cNvSpPr/>
              <p:nvPr/>
            </p:nvSpPr>
            <p:spPr>
              <a:xfrm>
                <a:off x="5682600" y="1522080"/>
                <a:ext cx="79128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直接连接符 79"/>
              <p:cNvSpPr/>
              <p:nvPr/>
            </p:nvSpPr>
            <p:spPr>
              <a:xfrm>
                <a:off x="6049800" y="1153800"/>
                <a:ext cx="0" cy="792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0" name="组合 69"/>
            <p:cNvGrpSpPr/>
            <p:nvPr/>
          </p:nvGrpSpPr>
          <p:grpSpPr>
            <a:xfrm>
              <a:off x="6447960" y="1125360"/>
              <a:ext cx="819720" cy="820800"/>
              <a:chOff x="6447960" y="1125360"/>
              <a:chExt cx="819720" cy="820800"/>
            </a:xfrm>
          </p:grpSpPr>
          <p:sp>
            <p:nvSpPr>
              <p:cNvPr id="701" name="矩形 74"/>
              <p:cNvSpPr/>
              <p:nvPr/>
            </p:nvSpPr>
            <p:spPr>
              <a:xfrm>
                <a:off x="6447960" y="1125360"/>
                <a:ext cx="791280" cy="7923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直接连接符 75"/>
              <p:cNvSpPr/>
              <p:nvPr/>
            </p:nvSpPr>
            <p:spPr>
              <a:xfrm>
                <a:off x="6476400" y="1522080"/>
                <a:ext cx="79128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直接连接符 76"/>
              <p:cNvSpPr/>
              <p:nvPr/>
            </p:nvSpPr>
            <p:spPr>
              <a:xfrm>
                <a:off x="6843600" y="1153800"/>
                <a:ext cx="0" cy="792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4" name="组合 70"/>
            <p:cNvGrpSpPr/>
            <p:nvPr/>
          </p:nvGrpSpPr>
          <p:grpSpPr>
            <a:xfrm>
              <a:off x="7244640" y="1125360"/>
              <a:ext cx="819720" cy="820800"/>
              <a:chOff x="7244640" y="1125360"/>
              <a:chExt cx="819720" cy="820800"/>
            </a:xfrm>
          </p:grpSpPr>
          <p:sp>
            <p:nvSpPr>
              <p:cNvPr id="705" name="矩形 71"/>
              <p:cNvSpPr/>
              <p:nvPr/>
            </p:nvSpPr>
            <p:spPr>
              <a:xfrm>
                <a:off x="7244640" y="1125360"/>
                <a:ext cx="791280" cy="7923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直接连接符 72"/>
              <p:cNvSpPr/>
              <p:nvPr/>
            </p:nvSpPr>
            <p:spPr>
              <a:xfrm>
                <a:off x="7273080" y="1522080"/>
                <a:ext cx="79128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直接连接符 73"/>
              <p:cNvSpPr/>
              <p:nvPr/>
            </p:nvSpPr>
            <p:spPr>
              <a:xfrm>
                <a:off x="7641000" y="1153800"/>
                <a:ext cx="0" cy="792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8" name="矩形 83"/>
          <p:cNvSpPr/>
          <p:nvPr/>
        </p:nvSpPr>
        <p:spPr>
          <a:xfrm>
            <a:off x="4992480" y="11415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矩形 84"/>
          <p:cNvSpPr/>
          <p:nvPr/>
        </p:nvSpPr>
        <p:spPr>
          <a:xfrm>
            <a:off x="5788080" y="11494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楷体"/>
                <a:ea typeface="楷体"/>
              </a:rPr>
              <a:t>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0" name="组合 85"/>
          <p:cNvGrpSpPr/>
          <p:nvPr/>
        </p:nvGrpSpPr>
        <p:grpSpPr>
          <a:xfrm>
            <a:off x="890640" y="2133720"/>
            <a:ext cx="3201840" cy="819000"/>
            <a:chOff x="890640" y="2133720"/>
            <a:chExt cx="3201840" cy="819000"/>
          </a:xfrm>
        </p:grpSpPr>
        <p:grpSp>
          <p:nvGrpSpPr>
            <p:cNvPr id="711" name="组合 86"/>
            <p:cNvGrpSpPr/>
            <p:nvPr/>
          </p:nvGrpSpPr>
          <p:grpSpPr>
            <a:xfrm>
              <a:off x="890640" y="2133720"/>
              <a:ext cx="819720" cy="819000"/>
              <a:chOff x="890640" y="2133720"/>
              <a:chExt cx="819720" cy="819000"/>
            </a:xfrm>
          </p:grpSpPr>
          <p:sp>
            <p:nvSpPr>
              <p:cNvPr id="712" name="矩形 99"/>
              <p:cNvSpPr/>
              <p:nvPr/>
            </p:nvSpPr>
            <p:spPr>
              <a:xfrm>
                <a:off x="890640" y="2133720"/>
                <a:ext cx="791280" cy="7905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直接连接符 100"/>
              <p:cNvSpPr/>
              <p:nvPr/>
            </p:nvSpPr>
            <p:spPr>
              <a:xfrm>
                <a:off x="919080" y="2529000"/>
                <a:ext cx="79128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直接连接符 101"/>
              <p:cNvSpPr/>
              <p:nvPr/>
            </p:nvSpPr>
            <p:spPr>
              <a:xfrm>
                <a:off x="1287000" y="2162160"/>
                <a:ext cx="0" cy="790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5" name="组合 87"/>
            <p:cNvGrpSpPr/>
            <p:nvPr/>
          </p:nvGrpSpPr>
          <p:grpSpPr>
            <a:xfrm>
              <a:off x="1682280" y="2133720"/>
              <a:ext cx="819720" cy="819000"/>
              <a:chOff x="1682280" y="2133720"/>
              <a:chExt cx="819720" cy="819000"/>
            </a:xfrm>
          </p:grpSpPr>
          <p:sp>
            <p:nvSpPr>
              <p:cNvPr id="716" name="矩形 96"/>
              <p:cNvSpPr/>
              <p:nvPr/>
            </p:nvSpPr>
            <p:spPr>
              <a:xfrm>
                <a:off x="1682280" y="2133720"/>
                <a:ext cx="791280" cy="7905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直接连接符 97"/>
              <p:cNvSpPr/>
              <p:nvPr/>
            </p:nvSpPr>
            <p:spPr>
              <a:xfrm>
                <a:off x="1710720" y="2529000"/>
                <a:ext cx="79128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直接连接符 98"/>
              <p:cNvSpPr/>
              <p:nvPr/>
            </p:nvSpPr>
            <p:spPr>
              <a:xfrm>
                <a:off x="2077920" y="2162160"/>
                <a:ext cx="0" cy="790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9" name="组合 88"/>
            <p:cNvGrpSpPr/>
            <p:nvPr/>
          </p:nvGrpSpPr>
          <p:grpSpPr>
            <a:xfrm>
              <a:off x="2476080" y="2133720"/>
              <a:ext cx="819720" cy="819000"/>
              <a:chOff x="2476080" y="2133720"/>
              <a:chExt cx="819720" cy="819000"/>
            </a:xfrm>
          </p:grpSpPr>
          <p:sp>
            <p:nvSpPr>
              <p:cNvPr id="720" name="矩形 93"/>
              <p:cNvSpPr/>
              <p:nvPr/>
            </p:nvSpPr>
            <p:spPr>
              <a:xfrm>
                <a:off x="2476080" y="2133720"/>
                <a:ext cx="791280" cy="7905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直接连接符 94"/>
              <p:cNvSpPr/>
              <p:nvPr/>
            </p:nvSpPr>
            <p:spPr>
              <a:xfrm>
                <a:off x="2504520" y="2529000"/>
                <a:ext cx="79128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直接连接符 95"/>
              <p:cNvSpPr/>
              <p:nvPr/>
            </p:nvSpPr>
            <p:spPr>
              <a:xfrm>
                <a:off x="2871720" y="2162160"/>
                <a:ext cx="0" cy="790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3" name="组合 89"/>
            <p:cNvGrpSpPr/>
            <p:nvPr/>
          </p:nvGrpSpPr>
          <p:grpSpPr>
            <a:xfrm>
              <a:off x="3272760" y="2133720"/>
              <a:ext cx="819720" cy="819000"/>
              <a:chOff x="3272760" y="2133720"/>
              <a:chExt cx="819720" cy="819000"/>
            </a:xfrm>
          </p:grpSpPr>
          <p:sp>
            <p:nvSpPr>
              <p:cNvPr id="724" name="矩形 90"/>
              <p:cNvSpPr/>
              <p:nvPr/>
            </p:nvSpPr>
            <p:spPr>
              <a:xfrm>
                <a:off x="3272760" y="2133720"/>
                <a:ext cx="791280" cy="7905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直接连接符 91"/>
              <p:cNvSpPr/>
              <p:nvPr/>
            </p:nvSpPr>
            <p:spPr>
              <a:xfrm>
                <a:off x="3301200" y="2529000"/>
                <a:ext cx="79128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直接连接符 92"/>
              <p:cNvSpPr/>
              <p:nvPr/>
            </p:nvSpPr>
            <p:spPr>
              <a:xfrm>
                <a:off x="3669120" y="2162160"/>
                <a:ext cx="0" cy="790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7" name="矩形 102"/>
          <p:cNvSpPr/>
          <p:nvPr/>
        </p:nvSpPr>
        <p:spPr>
          <a:xfrm>
            <a:off x="1049400" y="21477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矩形 103"/>
          <p:cNvSpPr/>
          <p:nvPr/>
        </p:nvSpPr>
        <p:spPr>
          <a:xfrm>
            <a:off x="1836720" y="21477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楷体"/>
                <a:ea typeface="楷体"/>
              </a:rPr>
              <a:t>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9" name="组合 104"/>
          <p:cNvGrpSpPr/>
          <p:nvPr/>
        </p:nvGrpSpPr>
        <p:grpSpPr>
          <a:xfrm>
            <a:off x="4862520" y="2119320"/>
            <a:ext cx="3201840" cy="819000"/>
            <a:chOff x="4862520" y="2119320"/>
            <a:chExt cx="3201840" cy="819000"/>
          </a:xfrm>
        </p:grpSpPr>
        <p:grpSp>
          <p:nvGrpSpPr>
            <p:cNvPr id="730" name="组合 105"/>
            <p:cNvGrpSpPr/>
            <p:nvPr/>
          </p:nvGrpSpPr>
          <p:grpSpPr>
            <a:xfrm>
              <a:off x="4862520" y="2119320"/>
              <a:ext cx="819720" cy="819000"/>
              <a:chOff x="4862520" y="2119320"/>
              <a:chExt cx="819720" cy="819000"/>
            </a:xfrm>
          </p:grpSpPr>
          <p:sp>
            <p:nvSpPr>
              <p:cNvPr id="731" name="矩形 118"/>
              <p:cNvSpPr/>
              <p:nvPr/>
            </p:nvSpPr>
            <p:spPr>
              <a:xfrm>
                <a:off x="4862520" y="2119320"/>
                <a:ext cx="791280" cy="7905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直接连接符 119"/>
              <p:cNvSpPr/>
              <p:nvPr/>
            </p:nvSpPr>
            <p:spPr>
              <a:xfrm>
                <a:off x="4890960" y="2514600"/>
                <a:ext cx="79128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直接连接符 120"/>
              <p:cNvSpPr/>
              <p:nvPr/>
            </p:nvSpPr>
            <p:spPr>
              <a:xfrm>
                <a:off x="5258880" y="2147760"/>
                <a:ext cx="0" cy="790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4" name="组合 106"/>
            <p:cNvGrpSpPr/>
            <p:nvPr/>
          </p:nvGrpSpPr>
          <p:grpSpPr>
            <a:xfrm>
              <a:off x="5654160" y="2119320"/>
              <a:ext cx="819720" cy="819000"/>
              <a:chOff x="5654160" y="2119320"/>
              <a:chExt cx="819720" cy="819000"/>
            </a:xfrm>
          </p:grpSpPr>
          <p:sp>
            <p:nvSpPr>
              <p:cNvPr id="735" name="矩形 115"/>
              <p:cNvSpPr/>
              <p:nvPr/>
            </p:nvSpPr>
            <p:spPr>
              <a:xfrm>
                <a:off x="5654160" y="2119320"/>
                <a:ext cx="791280" cy="7905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直接连接符 116"/>
              <p:cNvSpPr/>
              <p:nvPr/>
            </p:nvSpPr>
            <p:spPr>
              <a:xfrm>
                <a:off x="5682600" y="2514600"/>
                <a:ext cx="79128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直接连接符 117"/>
              <p:cNvSpPr/>
              <p:nvPr/>
            </p:nvSpPr>
            <p:spPr>
              <a:xfrm>
                <a:off x="6049800" y="2147760"/>
                <a:ext cx="0" cy="790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8" name="组合 107"/>
            <p:cNvGrpSpPr/>
            <p:nvPr/>
          </p:nvGrpSpPr>
          <p:grpSpPr>
            <a:xfrm>
              <a:off x="6447960" y="2119320"/>
              <a:ext cx="819720" cy="819000"/>
              <a:chOff x="6447960" y="2119320"/>
              <a:chExt cx="819720" cy="819000"/>
            </a:xfrm>
          </p:grpSpPr>
          <p:sp>
            <p:nvSpPr>
              <p:cNvPr id="739" name="矩形 112"/>
              <p:cNvSpPr/>
              <p:nvPr/>
            </p:nvSpPr>
            <p:spPr>
              <a:xfrm>
                <a:off x="6447960" y="2119320"/>
                <a:ext cx="791280" cy="7905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直接连接符 113"/>
              <p:cNvSpPr/>
              <p:nvPr/>
            </p:nvSpPr>
            <p:spPr>
              <a:xfrm>
                <a:off x="6476400" y="2514600"/>
                <a:ext cx="79128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直接连接符 114"/>
              <p:cNvSpPr/>
              <p:nvPr/>
            </p:nvSpPr>
            <p:spPr>
              <a:xfrm>
                <a:off x="6843600" y="2147760"/>
                <a:ext cx="0" cy="790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2" name="组合 108"/>
            <p:cNvGrpSpPr/>
            <p:nvPr/>
          </p:nvGrpSpPr>
          <p:grpSpPr>
            <a:xfrm>
              <a:off x="7244640" y="2119320"/>
              <a:ext cx="819720" cy="819000"/>
              <a:chOff x="7244640" y="2119320"/>
              <a:chExt cx="819720" cy="819000"/>
            </a:xfrm>
          </p:grpSpPr>
          <p:sp>
            <p:nvSpPr>
              <p:cNvPr id="743" name="矩形 109"/>
              <p:cNvSpPr/>
              <p:nvPr/>
            </p:nvSpPr>
            <p:spPr>
              <a:xfrm>
                <a:off x="7244640" y="2119320"/>
                <a:ext cx="791280" cy="7905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直接连接符 110"/>
              <p:cNvSpPr/>
              <p:nvPr/>
            </p:nvSpPr>
            <p:spPr>
              <a:xfrm>
                <a:off x="7273080" y="2514600"/>
                <a:ext cx="79128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直接连接符 111"/>
              <p:cNvSpPr/>
              <p:nvPr/>
            </p:nvSpPr>
            <p:spPr>
              <a:xfrm>
                <a:off x="7641000" y="2147760"/>
                <a:ext cx="0" cy="790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6" name="矩形 121"/>
          <p:cNvSpPr/>
          <p:nvPr/>
        </p:nvSpPr>
        <p:spPr>
          <a:xfrm>
            <a:off x="5013360" y="21477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矩形 122"/>
          <p:cNvSpPr/>
          <p:nvPr/>
        </p:nvSpPr>
        <p:spPr>
          <a:xfrm>
            <a:off x="5808600" y="21542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楷体"/>
                <a:ea typeface="楷体"/>
              </a:rPr>
              <a:t>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矩形 7"/>
          <p:cNvSpPr/>
          <p:nvPr/>
        </p:nvSpPr>
        <p:spPr>
          <a:xfrm>
            <a:off x="944640" y="2963880"/>
            <a:ext cx="3235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左边短，右边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矩形 7"/>
          <p:cNvSpPr/>
          <p:nvPr/>
        </p:nvSpPr>
        <p:spPr>
          <a:xfrm>
            <a:off x="4862520" y="2938320"/>
            <a:ext cx="3235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左边长，右边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矩形 7"/>
          <p:cNvSpPr/>
          <p:nvPr/>
        </p:nvSpPr>
        <p:spPr>
          <a:xfrm>
            <a:off x="3144960" y="425520"/>
            <a:ext cx="3235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都是左右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Picture 9" descr=""/>
          <p:cNvPicPr/>
          <p:nvPr/>
        </p:nvPicPr>
        <p:blipFill>
          <a:blip r:embed="rId1"/>
          <a:stretch/>
        </p:blipFill>
        <p:spPr>
          <a:xfrm>
            <a:off x="344520" y="281160"/>
            <a:ext cx="1989000" cy="460080"/>
          </a:xfrm>
          <a:prstGeom prst="rect">
            <a:avLst/>
          </a:prstGeom>
          <a:ln w="0">
            <a:noFill/>
          </a:ln>
        </p:spPr>
      </p:pic>
      <p:sp>
        <p:nvSpPr>
          <p:cNvPr id="752" name="矩形 4"/>
          <p:cNvSpPr/>
          <p:nvPr/>
        </p:nvSpPr>
        <p:spPr>
          <a:xfrm>
            <a:off x="2084400" y="452520"/>
            <a:ext cx="2797200" cy="37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江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唐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柳宗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千山鸟飞绝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万径人踪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孤舟蓑笠翁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独钓寒江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3" name="图片 1" descr=""/>
          <p:cNvPicPr/>
          <p:nvPr/>
        </p:nvPicPr>
        <p:blipFill>
          <a:blip r:embed="rId2"/>
          <a:stretch/>
        </p:blipFill>
        <p:spPr>
          <a:xfrm>
            <a:off x="5222880" y="1855800"/>
            <a:ext cx="3247920" cy="207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矩形 1"/>
          <p:cNvSpPr/>
          <p:nvPr/>
        </p:nvSpPr>
        <p:spPr>
          <a:xfrm>
            <a:off x="732960" y="298440"/>
            <a:ext cx="163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作者简介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矩形 2"/>
          <p:cNvSpPr/>
          <p:nvPr/>
        </p:nvSpPr>
        <p:spPr>
          <a:xfrm>
            <a:off x="2075040" y="766800"/>
            <a:ext cx="67039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柳宗元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773—819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，唐代文学家、哲学家，“唐宋八大家”之一。字子厚，河东解（今山西运城市西南）人，世称柳河东。其主要作品有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渔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小石潭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捕蛇者说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黔之驴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6" name="图片 3" descr=""/>
          <p:cNvPicPr/>
          <p:nvPr/>
        </p:nvPicPr>
        <p:blipFill>
          <a:blip r:embed="rId1"/>
          <a:stretch/>
        </p:blipFill>
        <p:spPr>
          <a:xfrm>
            <a:off x="347760" y="1290600"/>
            <a:ext cx="1617480" cy="203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矩形 1"/>
          <p:cNvSpPr/>
          <p:nvPr/>
        </p:nvSpPr>
        <p:spPr>
          <a:xfrm>
            <a:off x="115920" y="201600"/>
            <a:ext cx="177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译文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矩形 4"/>
          <p:cNvSpPr/>
          <p:nvPr/>
        </p:nvSpPr>
        <p:spPr>
          <a:xfrm>
            <a:off x="254160" y="1068480"/>
            <a:ext cx="56451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所有的高山被厚厚的积雪覆盖，一片洁白，一只飞鸟也没有，所有的道路上都没有行人，一片沉寂。江面的一叶孤舟上，一位披着蓑衣戴着斗笠的老人，独自在寒冷的江心垂钓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图片 1" descr=""/>
          <p:cNvPicPr/>
          <p:nvPr/>
        </p:nvPicPr>
        <p:blipFill>
          <a:blip r:embed="rId1"/>
          <a:stretch/>
        </p:blipFill>
        <p:spPr>
          <a:xfrm>
            <a:off x="6031080" y="1409760"/>
            <a:ext cx="2927160" cy="249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0" name="组合 2"/>
          <p:cNvGrpSpPr/>
          <p:nvPr/>
        </p:nvGrpSpPr>
        <p:grpSpPr>
          <a:xfrm>
            <a:off x="262080" y="192240"/>
            <a:ext cx="2462040" cy="676080"/>
            <a:chOff x="262080" y="192240"/>
            <a:chExt cx="2462040" cy="676080"/>
          </a:xfrm>
        </p:grpSpPr>
        <p:sp>
          <p:nvSpPr>
            <p:cNvPr id="761" name="矩形 1"/>
            <p:cNvSpPr/>
            <p:nvPr/>
          </p:nvSpPr>
          <p:spPr>
            <a:xfrm>
              <a:off x="262080" y="282240"/>
              <a:ext cx="199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ff"/>
                  </a:solidFill>
                  <a:latin typeface="黑体"/>
                  <a:ea typeface="黑体"/>
                </a:rPr>
                <a:t>我爱阅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2" name="图片 1" descr=""/>
            <p:cNvPicPr/>
            <p:nvPr/>
          </p:nvPicPr>
          <p:blipFill>
            <a:blip r:embed="rId1"/>
            <a:stretch/>
          </p:blipFill>
          <p:spPr>
            <a:xfrm>
              <a:off x="1997280" y="192240"/>
              <a:ext cx="726840" cy="67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3" name="矩形 6"/>
          <p:cNvSpPr/>
          <p:nvPr/>
        </p:nvSpPr>
        <p:spPr>
          <a:xfrm>
            <a:off x="3235320" y="1619280"/>
            <a:ext cx="549900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宋体"/>
                <a:ea typeface="宋体"/>
              </a:rPr>
              <a:t>刻舟求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原文略，见教材第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页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4" name="图片 2" descr=""/>
          <p:cNvPicPr/>
          <p:nvPr/>
        </p:nvPicPr>
        <p:blipFill>
          <a:blip r:embed="rId2"/>
          <a:stretch/>
        </p:blipFill>
        <p:spPr>
          <a:xfrm>
            <a:off x="411120" y="1828800"/>
            <a:ext cx="3581280" cy="167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Text Box 2"/>
          <p:cNvSpPr/>
          <p:nvPr/>
        </p:nvSpPr>
        <p:spPr>
          <a:xfrm>
            <a:off x="619200" y="1865160"/>
            <a:ext cx="79484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这个故事告诉我们办事不能只凭主观愿望，不能想当然，要根据客观情况的变化而灵活处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3"/>
          <p:cNvSpPr/>
          <p:nvPr/>
        </p:nvSpPr>
        <p:spPr>
          <a:xfrm>
            <a:off x="1522440" y="1101600"/>
            <a:ext cx="704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想一想，这个故事告诉我们什么道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7" name="Picture 6" descr="http://img.lanrentuku.com/img/allimg/1208/46-120Q3130142-51.gif"/>
          <p:cNvPicPr/>
          <p:nvPr/>
        </p:nvPicPr>
        <p:blipFill>
          <a:blip r:embed="rId1"/>
          <a:stretch/>
        </p:blipFill>
        <p:spPr>
          <a:xfrm>
            <a:off x="558720" y="646200"/>
            <a:ext cx="1038240" cy="103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7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5" descr="C:\Users\Administrator\Desktop\识字加油站.tif"/>
          <p:cNvPicPr/>
          <p:nvPr/>
        </p:nvPicPr>
        <p:blipFill>
          <a:blip r:embed="rId1"/>
          <a:stretch/>
        </p:blipFill>
        <p:spPr>
          <a:xfrm>
            <a:off x="249120" y="358920"/>
            <a:ext cx="2557440" cy="485640"/>
          </a:xfrm>
          <a:prstGeom prst="rect">
            <a:avLst/>
          </a:prstGeom>
          <a:ln w="0">
            <a:noFill/>
          </a:ln>
        </p:spPr>
      </p:pic>
      <p:sp>
        <p:nvSpPr>
          <p:cNvPr id="580" name="TextBox 10"/>
          <p:cNvSpPr/>
          <p:nvPr/>
        </p:nvSpPr>
        <p:spPr>
          <a:xfrm>
            <a:off x="765000" y="895320"/>
            <a:ext cx="68313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根据字形特点猜一猜应该选什么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1" name="组合 8"/>
          <p:cNvGrpSpPr/>
          <p:nvPr/>
        </p:nvGrpSpPr>
        <p:grpSpPr>
          <a:xfrm>
            <a:off x="696960" y="1500120"/>
            <a:ext cx="3263760" cy="2902680"/>
            <a:chOff x="696960" y="1500120"/>
            <a:chExt cx="3263760" cy="2902680"/>
          </a:xfrm>
        </p:grpSpPr>
        <p:sp>
          <p:nvSpPr>
            <p:cNvPr id="582" name="TextBox 10"/>
            <p:cNvSpPr/>
            <p:nvPr/>
          </p:nvSpPr>
          <p:spPr>
            <a:xfrm>
              <a:off x="703440" y="1676880"/>
              <a:ext cx="3257280" cy="27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山（  ）    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蜜（  ）    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刀（  ）    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直接连接符 2"/>
            <p:cNvSpPr/>
            <p:nvPr/>
          </p:nvSpPr>
          <p:spPr>
            <a:xfrm>
              <a:off x="2255760" y="2262240"/>
              <a:ext cx="952200" cy="8683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矩形 7"/>
            <p:cNvSpPr/>
            <p:nvPr/>
          </p:nvSpPr>
          <p:spPr>
            <a:xfrm>
              <a:off x="1309320" y="1500120"/>
              <a:ext cx="98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fēn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矩形 10"/>
            <p:cNvSpPr/>
            <p:nvPr/>
          </p:nvSpPr>
          <p:spPr>
            <a:xfrm>
              <a:off x="1302120" y="2442960"/>
              <a:ext cx="98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fēn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矩形 11"/>
            <p:cNvSpPr/>
            <p:nvPr/>
          </p:nvSpPr>
          <p:spPr>
            <a:xfrm>
              <a:off x="1289520" y="3313080"/>
              <a:ext cx="98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fēn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矩形 12"/>
            <p:cNvSpPr/>
            <p:nvPr/>
          </p:nvSpPr>
          <p:spPr>
            <a:xfrm>
              <a:off x="696960" y="2433600"/>
              <a:ext cx="63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mì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8" name="TextBox 10"/>
          <p:cNvSpPr/>
          <p:nvPr/>
        </p:nvSpPr>
        <p:spPr>
          <a:xfrm>
            <a:off x="4098960" y="1943280"/>
            <a:ext cx="4530600" cy="630000"/>
          </a:xfrm>
          <a:prstGeom prst="rect">
            <a:avLst/>
          </a:prstGeom>
          <a:noFill/>
          <a:ln w="255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宋体"/>
              </a:rPr>
              <a:t>峰：山字旁，说明和山有关；锋，金字旁，说明和金属有关；蜂，虫字旁，说明属于虫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直接连接符 15"/>
          <p:cNvSpPr/>
          <p:nvPr/>
        </p:nvSpPr>
        <p:spPr>
          <a:xfrm>
            <a:off x="2236680" y="3040200"/>
            <a:ext cx="952560" cy="86832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直接连接符 16"/>
          <p:cNvSpPr/>
          <p:nvPr/>
        </p:nvSpPr>
        <p:spPr>
          <a:xfrm flipV="1">
            <a:off x="2249640" y="2260440"/>
            <a:ext cx="960120" cy="165744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Box 10"/>
          <p:cNvSpPr/>
          <p:nvPr/>
        </p:nvSpPr>
        <p:spPr>
          <a:xfrm>
            <a:off x="696960" y="233280"/>
            <a:ext cx="3259080" cy="27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爱（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    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扫（  ）    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开（  ）    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10"/>
          <p:cNvSpPr/>
          <p:nvPr/>
        </p:nvSpPr>
        <p:spPr>
          <a:xfrm>
            <a:off x="4726080" y="233280"/>
            <a:ext cx="3259080" cy="27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吵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  ）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抄    （  ）闹炒    （  ）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直接连接符 16"/>
          <p:cNvSpPr/>
          <p:nvPr/>
        </p:nvSpPr>
        <p:spPr>
          <a:xfrm>
            <a:off x="4240080" y="380880"/>
            <a:ext cx="49320" cy="2502000"/>
          </a:xfrm>
          <a:prstGeom prst="line">
            <a:avLst/>
          </a:prstGeom>
          <a:ln w="22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直接连接符 22"/>
          <p:cNvSpPr/>
          <p:nvPr/>
        </p:nvSpPr>
        <p:spPr>
          <a:xfrm>
            <a:off x="5272200" y="763560"/>
            <a:ext cx="952560" cy="868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Box 10"/>
          <p:cNvSpPr/>
          <p:nvPr/>
        </p:nvSpPr>
        <p:spPr>
          <a:xfrm>
            <a:off x="639720" y="2962440"/>
            <a:ext cx="7418520" cy="630000"/>
          </a:xfrm>
          <a:prstGeom prst="rect">
            <a:avLst/>
          </a:prstGeom>
          <a:noFill/>
          <a:ln w="255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00ff"/>
                </a:solidFill>
                <a:latin typeface="宋体"/>
                <a:ea typeface="宋体"/>
              </a:rPr>
              <a:t>这三组汉字都是形声字，形旁表示了这个字的意思。因此，可以根据它的形旁来判断应该选什么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直接连接符 24"/>
          <p:cNvSpPr/>
          <p:nvPr/>
        </p:nvSpPr>
        <p:spPr>
          <a:xfrm>
            <a:off x="2228760" y="763560"/>
            <a:ext cx="952560" cy="86832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直接连接符 25"/>
          <p:cNvSpPr/>
          <p:nvPr/>
        </p:nvSpPr>
        <p:spPr>
          <a:xfrm flipV="1">
            <a:off x="2232000" y="803160"/>
            <a:ext cx="959040" cy="165744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矩形 27"/>
          <p:cNvSpPr/>
          <p:nvPr/>
        </p:nvSpPr>
        <p:spPr>
          <a:xfrm>
            <a:off x="1458360" y="119160"/>
            <a:ext cx="76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m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矩形 28"/>
          <p:cNvSpPr/>
          <p:nvPr/>
        </p:nvSpPr>
        <p:spPr>
          <a:xfrm>
            <a:off x="1458360" y="1028880"/>
            <a:ext cx="76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m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矩形 29"/>
          <p:cNvSpPr/>
          <p:nvPr/>
        </p:nvSpPr>
        <p:spPr>
          <a:xfrm>
            <a:off x="1458360" y="1914480"/>
            <a:ext cx="76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m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矩形 30"/>
          <p:cNvSpPr/>
          <p:nvPr/>
        </p:nvSpPr>
        <p:spPr>
          <a:xfrm>
            <a:off x="6163920" y="131760"/>
            <a:ext cx="10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hǎ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矩形 33"/>
          <p:cNvSpPr/>
          <p:nvPr/>
        </p:nvSpPr>
        <p:spPr>
          <a:xfrm>
            <a:off x="6163920" y="1006560"/>
            <a:ext cx="10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hǎ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矩形 35"/>
          <p:cNvSpPr/>
          <p:nvPr/>
        </p:nvSpPr>
        <p:spPr>
          <a:xfrm>
            <a:off x="6163920" y="1836720"/>
            <a:ext cx="10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hā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直接连接符 36"/>
          <p:cNvSpPr/>
          <p:nvPr/>
        </p:nvSpPr>
        <p:spPr>
          <a:xfrm>
            <a:off x="2246400" y="1609560"/>
            <a:ext cx="952560" cy="86868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直接连接符 38"/>
          <p:cNvSpPr/>
          <p:nvPr/>
        </p:nvSpPr>
        <p:spPr>
          <a:xfrm>
            <a:off x="5272200" y="1662120"/>
            <a:ext cx="952560" cy="86832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直接连接符 39"/>
          <p:cNvSpPr/>
          <p:nvPr/>
        </p:nvSpPr>
        <p:spPr>
          <a:xfrm flipV="1">
            <a:off x="5267160" y="874440"/>
            <a:ext cx="960480" cy="165564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矩形 17"/>
          <p:cNvSpPr/>
          <p:nvPr/>
        </p:nvSpPr>
        <p:spPr>
          <a:xfrm>
            <a:off x="612000" y="99072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ǎ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组合 27"/>
          <p:cNvGrpSpPr/>
          <p:nvPr/>
        </p:nvGrpSpPr>
        <p:grpSpPr>
          <a:xfrm>
            <a:off x="3174840" y="619200"/>
            <a:ext cx="2114640" cy="875520"/>
            <a:chOff x="3174840" y="619200"/>
            <a:chExt cx="2114640" cy="875520"/>
          </a:xfrm>
        </p:grpSpPr>
        <p:sp>
          <p:nvSpPr>
            <p:cNvPr id="609" name="矩形: 圆角 28"/>
            <p:cNvSpPr/>
            <p:nvPr/>
          </p:nvSpPr>
          <p:spPr>
            <a:xfrm rot="19996800">
              <a:off x="3263400" y="767880"/>
              <a:ext cx="590400" cy="53496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6480">
              <a:solidFill>
                <a:srgbClr val="ff9999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矩形: 圆角 29"/>
            <p:cNvSpPr/>
            <p:nvPr/>
          </p:nvSpPr>
          <p:spPr>
            <a:xfrm rot="432000">
              <a:off x="3957480" y="653760"/>
              <a:ext cx="590400" cy="53496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99ff99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矩形: 圆角 30"/>
            <p:cNvSpPr/>
            <p:nvPr/>
          </p:nvSpPr>
          <p:spPr>
            <a:xfrm rot="1932000">
              <a:off x="4600080" y="843120"/>
              <a:ext cx="592200" cy="53496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认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TextBox 6"/>
          <p:cNvSpPr/>
          <p:nvPr/>
        </p:nvSpPr>
        <p:spPr>
          <a:xfrm>
            <a:off x="1333440" y="1946160"/>
            <a:ext cx="1301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矩形 9"/>
          <p:cNvSpPr/>
          <p:nvPr/>
        </p:nvSpPr>
        <p:spPr>
          <a:xfrm>
            <a:off x="2962440" y="2378160"/>
            <a:ext cx="160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锋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图片 3" descr=""/>
          <p:cNvPicPr/>
          <p:nvPr/>
        </p:nvPicPr>
        <p:blipFill>
          <a:blip r:embed="rId1"/>
          <a:stretch/>
        </p:blipFill>
        <p:spPr>
          <a:xfrm>
            <a:off x="4780080" y="1886040"/>
            <a:ext cx="2232000" cy="156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Box 6"/>
          <p:cNvSpPr/>
          <p:nvPr/>
        </p:nvSpPr>
        <p:spPr>
          <a:xfrm>
            <a:off x="331920" y="1873080"/>
            <a:ext cx="1301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蜜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6"/>
          <p:cNvSpPr/>
          <p:nvPr/>
        </p:nvSpPr>
        <p:spPr>
          <a:xfrm>
            <a:off x="1781280" y="1873080"/>
            <a:ext cx="1299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蜂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矩形 9"/>
          <p:cNvSpPr/>
          <p:nvPr/>
        </p:nvSpPr>
        <p:spPr>
          <a:xfrm>
            <a:off x="3959280" y="1101600"/>
            <a:ext cx="14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蜜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矩形 9"/>
          <p:cNvSpPr/>
          <p:nvPr/>
        </p:nvSpPr>
        <p:spPr>
          <a:xfrm>
            <a:off x="6892920" y="1101600"/>
            <a:ext cx="14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蜂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图片 5" descr=""/>
          <p:cNvPicPr/>
          <p:nvPr/>
        </p:nvPicPr>
        <p:blipFill>
          <a:blip r:embed="rId1"/>
          <a:stretch/>
        </p:blipFill>
        <p:spPr>
          <a:xfrm>
            <a:off x="3182760" y="1692360"/>
            <a:ext cx="2752920" cy="2355840"/>
          </a:xfrm>
          <a:prstGeom prst="rect">
            <a:avLst/>
          </a:prstGeom>
          <a:ln w="0">
            <a:noFill/>
          </a:ln>
        </p:spPr>
      </p:pic>
      <p:pic>
        <p:nvPicPr>
          <p:cNvPr id="620" name="图片 6" descr=""/>
          <p:cNvPicPr/>
          <p:nvPr/>
        </p:nvPicPr>
        <p:blipFill>
          <a:blip r:embed="rId2"/>
          <a:stretch/>
        </p:blipFill>
        <p:spPr>
          <a:xfrm>
            <a:off x="6037200" y="1962000"/>
            <a:ext cx="2700360" cy="180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TextBox 6"/>
          <p:cNvSpPr/>
          <p:nvPr/>
        </p:nvSpPr>
        <p:spPr>
          <a:xfrm>
            <a:off x="631800" y="1998720"/>
            <a:ext cx="1301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幕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矩形 9"/>
          <p:cNvSpPr/>
          <p:nvPr/>
        </p:nvSpPr>
        <p:spPr>
          <a:xfrm>
            <a:off x="2583000" y="108756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幕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Box 6"/>
          <p:cNvSpPr/>
          <p:nvPr/>
        </p:nvSpPr>
        <p:spPr>
          <a:xfrm>
            <a:off x="4816440" y="1928880"/>
            <a:ext cx="1300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扫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矩形 9"/>
          <p:cNvSpPr/>
          <p:nvPr/>
        </p:nvSpPr>
        <p:spPr>
          <a:xfrm>
            <a:off x="6707160" y="1000080"/>
            <a:ext cx="14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打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图片 4" descr=""/>
          <p:cNvPicPr/>
          <p:nvPr/>
        </p:nvPicPr>
        <p:blipFill>
          <a:blip r:embed="rId1"/>
          <a:stretch/>
        </p:blipFill>
        <p:spPr>
          <a:xfrm>
            <a:off x="2063880" y="1854360"/>
            <a:ext cx="2341440" cy="2187360"/>
          </a:xfrm>
          <a:prstGeom prst="rect">
            <a:avLst/>
          </a:prstGeom>
          <a:ln w="0">
            <a:noFill/>
          </a:ln>
        </p:spPr>
      </p:pic>
      <p:pic>
        <p:nvPicPr>
          <p:cNvPr id="626" name="图片 5" descr=""/>
          <p:cNvPicPr/>
          <p:nvPr/>
        </p:nvPicPr>
        <p:blipFill>
          <a:blip r:embed="rId2"/>
          <a:stretch/>
        </p:blipFill>
        <p:spPr>
          <a:xfrm>
            <a:off x="6110280" y="1992240"/>
            <a:ext cx="2182680" cy="204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TextBox 6"/>
          <p:cNvSpPr/>
          <p:nvPr/>
        </p:nvSpPr>
        <p:spPr>
          <a:xfrm>
            <a:off x="4695840" y="1974960"/>
            <a:ext cx="1301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慕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Box 6"/>
          <p:cNvSpPr/>
          <p:nvPr/>
        </p:nvSpPr>
        <p:spPr>
          <a:xfrm>
            <a:off x="231840" y="1986120"/>
            <a:ext cx="1299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墓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矩形 9"/>
          <p:cNvSpPr/>
          <p:nvPr/>
        </p:nvSpPr>
        <p:spPr>
          <a:xfrm>
            <a:off x="2066760" y="1216080"/>
            <a:ext cx="14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扫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图片 2" descr=""/>
          <p:cNvPicPr/>
          <p:nvPr/>
        </p:nvPicPr>
        <p:blipFill>
          <a:blip r:embed="rId1"/>
          <a:stretch/>
        </p:blipFill>
        <p:spPr>
          <a:xfrm>
            <a:off x="5997600" y="1803240"/>
            <a:ext cx="2851200" cy="2041560"/>
          </a:xfrm>
          <a:prstGeom prst="rect">
            <a:avLst/>
          </a:prstGeom>
          <a:ln w="0">
            <a:noFill/>
          </a:ln>
        </p:spPr>
      </p:pic>
      <p:pic>
        <p:nvPicPr>
          <p:cNvPr id="631" name="图片 3" descr=""/>
          <p:cNvPicPr/>
          <p:nvPr/>
        </p:nvPicPr>
        <p:blipFill>
          <a:blip r:embed="rId2"/>
          <a:stretch/>
        </p:blipFill>
        <p:spPr>
          <a:xfrm>
            <a:off x="1706400" y="2106720"/>
            <a:ext cx="2403720" cy="1596960"/>
          </a:xfrm>
          <a:prstGeom prst="rect">
            <a:avLst/>
          </a:prstGeom>
          <a:ln w="0">
            <a:noFill/>
          </a:ln>
        </p:spPr>
      </p:pic>
      <p:sp>
        <p:nvSpPr>
          <p:cNvPr id="632" name="矩形 9"/>
          <p:cNvSpPr/>
          <p:nvPr/>
        </p:nvSpPr>
        <p:spPr>
          <a:xfrm>
            <a:off x="6754680" y="119232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羡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图片 4" descr=""/>
          <p:cNvPicPr/>
          <p:nvPr/>
        </p:nvPicPr>
        <p:blipFill>
          <a:blip r:embed="rId1"/>
          <a:stretch/>
        </p:blipFill>
        <p:spPr>
          <a:xfrm>
            <a:off x="6122880" y="2031840"/>
            <a:ext cx="2260800" cy="1989360"/>
          </a:xfrm>
          <a:prstGeom prst="rect">
            <a:avLst/>
          </a:prstGeom>
          <a:ln w="0">
            <a:noFill/>
          </a:ln>
        </p:spPr>
      </p:pic>
      <p:sp>
        <p:nvSpPr>
          <p:cNvPr id="634" name="TextBox 6"/>
          <p:cNvSpPr/>
          <p:nvPr/>
        </p:nvSpPr>
        <p:spPr>
          <a:xfrm>
            <a:off x="534960" y="1952640"/>
            <a:ext cx="1301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抄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矩形 9"/>
          <p:cNvSpPr/>
          <p:nvPr/>
        </p:nvSpPr>
        <p:spPr>
          <a:xfrm>
            <a:off x="2408400" y="102060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抄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Box 6"/>
          <p:cNvSpPr/>
          <p:nvPr/>
        </p:nvSpPr>
        <p:spPr>
          <a:xfrm>
            <a:off x="4516560" y="1952640"/>
            <a:ext cx="1299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炒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矩形 9"/>
          <p:cNvSpPr/>
          <p:nvPr/>
        </p:nvSpPr>
        <p:spPr>
          <a:xfrm>
            <a:off x="6647040" y="138276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炒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图片 3" descr=""/>
          <p:cNvPicPr/>
          <p:nvPr/>
        </p:nvPicPr>
        <p:blipFill>
          <a:blip r:embed="rId2"/>
          <a:stretch/>
        </p:blipFill>
        <p:spPr>
          <a:xfrm>
            <a:off x="2070000" y="1674720"/>
            <a:ext cx="1528920" cy="20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5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Picture 2" descr="E:\孙巧灵\2016秋上\上课课件\制作\R一语上\人一语大课堂（正文）\字词句运用新.tif"/>
          <p:cNvPicPr/>
          <p:nvPr/>
        </p:nvPicPr>
        <p:blipFill>
          <a:blip r:embed="rId1"/>
          <a:stretch/>
        </p:blipFill>
        <p:spPr>
          <a:xfrm>
            <a:off x="193680" y="385920"/>
            <a:ext cx="2523960" cy="485640"/>
          </a:xfrm>
          <a:prstGeom prst="rect">
            <a:avLst/>
          </a:prstGeom>
          <a:ln w="0">
            <a:noFill/>
          </a:ln>
        </p:spPr>
      </p:pic>
      <p:sp>
        <p:nvSpPr>
          <p:cNvPr id="640" name="矩形 1"/>
          <p:cNvSpPr/>
          <p:nvPr/>
        </p:nvSpPr>
        <p:spPr>
          <a:xfrm>
            <a:off x="351000" y="1112760"/>
            <a:ext cx="8127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读一读，猜一猜词语的意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圆角矩形 1"/>
          <p:cNvSpPr/>
          <p:nvPr/>
        </p:nvSpPr>
        <p:spPr>
          <a:xfrm>
            <a:off x="482760" y="1955880"/>
            <a:ext cx="8213400" cy="1506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不言不语  只言片语  三言两语  千言万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默默无语  少言寡语  自言自语  甜言蜜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4T07:05:12Z</dcterms:created>
  <dc:creator>User</dc:creator>
  <dc:description>声  明
 本文件仅用于个人学习、研究或欣赏，以及其他非商业性或非盈利性用途，但同时应遵守著作权法及其他相关法律的规定，不得侵犯本司及相关权利人的合法权利。
 除此以外，将本文件任何内容用于其他用途时，应获得授权，如发现未经授权用于商业或盈利用途将追加侵权者的法律责任。
武汉天成贵龙文化传播有限公司</dc:description>
  <cp:keywords>状元成才路</cp:keywords>
  <dc:language>en-US</dc:language>
  <cp:lastModifiedBy>万润仪器贸易公司</cp:lastModifiedBy>
  <dcterms:modified xsi:type="dcterms:W3CDTF">2020-08-19T01:46:53Z</dcterms:modified>
  <cp:revision>276</cp:revision>
  <dc:subject>状元成才路</dc:subject>
  <dc:title>状元成才路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